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1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03154"/>
              </a:solidFill>
              <a:latin typeface="Corbe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7581960" cy="19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79040" y="4041720"/>
            <a:ext cx="7581960" cy="19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1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0315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699720" cy="19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4160" y="1949400"/>
            <a:ext cx="3699720" cy="19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79040" y="4041720"/>
            <a:ext cx="3699720" cy="19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4160" y="4041720"/>
            <a:ext cx="3699720" cy="19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1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03154"/>
              </a:solidFill>
              <a:latin typeface="Corbe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2441160" cy="19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42600" y="1949400"/>
            <a:ext cx="2441160" cy="19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06160" y="1949400"/>
            <a:ext cx="2441160" cy="19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779040" y="4041720"/>
            <a:ext cx="2441160" cy="19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42600" y="4041720"/>
            <a:ext cx="2441160" cy="19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06160" y="4041720"/>
            <a:ext cx="2441160" cy="19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0EBD-57B3-4FF6-86E9-A6D0CE6FC1D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1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03154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779040" y="1949400"/>
            <a:ext cx="758196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2621-D3A6-4474-AA0E-1C25495EA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1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03154"/>
              </a:solidFill>
              <a:latin typeface="Corbe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758196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4439-42E2-4DC6-89A3-7EDF5EA3A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1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03154"/>
              </a:solidFill>
              <a:latin typeface="Corbe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69972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4160" y="1949400"/>
            <a:ext cx="369972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8B9F-EDB2-43F3-8CF8-D21344EBB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1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0315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3484-6AAC-4AFF-B327-A01F62FD3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779040" y="294840"/>
            <a:ext cx="75819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33A2-6FAC-4778-8A55-B970C222B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1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03154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699720" cy="19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4160" y="1949400"/>
            <a:ext cx="369972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79040" y="4041720"/>
            <a:ext cx="3699720" cy="19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9B5A-7F81-45CB-ACE8-7B206BE4C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1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03154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779040" y="1949400"/>
            <a:ext cx="758196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1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03154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69972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4160" y="1949400"/>
            <a:ext cx="3699720" cy="19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4160" y="4041720"/>
            <a:ext cx="3699720" cy="19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91B0-F7F7-4264-9B2F-E6AA87549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1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03154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699720" cy="19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4160" y="1949400"/>
            <a:ext cx="3699720" cy="19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79040" y="4041720"/>
            <a:ext cx="7581960" cy="19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A3A0-2A65-4D80-ACFE-FFBD601B8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1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03154"/>
              </a:solidFill>
              <a:latin typeface="Corbe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7581960" cy="19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779040" y="4041720"/>
            <a:ext cx="7581960" cy="19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8BDB-E63D-4F93-9386-F4D10C901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1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03154"/>
              </a:solidFill>
              <a:latin typeface="Corbe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699720" cy="19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4160" y="1949400"/>
            <a:ext cx="3699720" cy="19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779040" y="4041720"/>
            <a:ext cx="3699720" cy="19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4160" y="4041720"/>
            <a:ext cx="3699720" cy="19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82BA-7792-4FB7-91C7-11FDE0978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1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03154"/>
              </a:solidFill>
              <a:latin typeface="Corbe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2441160" cy="19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42600" y="1949400"/>
            <a:ext cx="2441160" cy="19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06160" y="1949400"/>
            <a:ext cx="2441160" cy="19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779040" y="4041720"/>
            <a:ext cx="2441160" cy="19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42600" y="4041720"/>
            <a:ext cx="2441160" cy="19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06160" y="4041720"/>
            <a:ext cx="2441160" cy="19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4C2C-726D-4521-B24E-B1C6FCF1D2E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A0BF6A-5573-43B4-A696-B803C342136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1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03154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779040" y="1949400"/>
            <a:ext cx="758196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FA808E-2B69-415C-BC58-49D8E80BF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1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03154"/>
              </a:solidFill>
              <a:latin typeface="Corbe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758196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584519-89BE-4828-BCA4-ED32A19AB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1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03154"/>
              </a:solidFill>
              <a:latin typeface="Corbe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69972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4160" y="1949400"/>
            <a:ext cx="369972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9BAA5B-9841-4C15-B7F1-9C0DDF1F0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1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0315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435206-B49B-42D9-808A-528C20714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1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03154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758196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779040" y="294840"/>
            <a:ext cx="75819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C6BDE2-7D2C-441C-9B26-F1BF6F13A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1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0315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699720" cy="19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4160" y="1949400"/>
            <a:ext cx="369972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779040" y="4041720"/>
            <a:ext cx="3699720" cy="19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9F805E-FB4F-4EBD-9A1E-BC2C794B5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1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03154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69972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4160" y="1949400"/>
            <a:ext cx="3699720" cy="19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64160" y="4041720"/>
            <a:ext cx="3699720" cy="19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4030A1-1458-4896-9792-76A08BC7C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1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03154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699720" cy="19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4160" y="1949400"/>
            <a:ext cx="3699720" cy="19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779040" y="4041720"/>
            <a:ext cx="7581960" cy="19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D45385-5B9C-413F-85A6-8A076A554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1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03154"/>
              </a:solidFill>
              <a:latin typeface="Corbe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7581960" cy="19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779040" y="4041720"/>
            <a:ext cx="7581960" cy="19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3C5C15-1A7B-4478-9AE3-04BFA0968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1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03154"/>
              </a:solidFill>
              <a:latin typeface="Corbe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699720" cy="19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4160" y="1949400"/>
            <a:ext cx="3699720" cy="19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779040" y="4041720"/>
            <a:ext cx="3699720" cy="19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64160" y="4041720"/>
            <a:ext cx="3699720" cy="19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B6BAD9-9978-4FE9-A412-C74F44008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1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03154"/>
              </a:solidFill>
              <a:latin typeface="Corbe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2441160" cy="19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342600" y="1949400"/>
            <a:ext cx="2441160" cy="19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906160" y="1949400"/>
            <a:ext cx="2441160" cy="19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779040" y="4041720"/>
            <a:ext cx="2441160" cy="19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342600" y="4041720"/>
            <a:ext cx="2441160" cy="19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906160" y="4041720"/>
            <a:ext cx="2441160" cy="19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810651-B459-4AD6-8CA5-609DBE36937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78A7D9B-6451-4212-AD15-0512DF89E99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1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0315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779040" y="1949400"/>
            <a:ext cx="758196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E63A23B-F948-492F-A24C-EF931814C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1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03154"/>
              </a:solidFill>
              <a:latin typeface="Corbe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758196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0618DDF-7DC1-4095-8200-CD5DAB8F0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1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03154"/>
              </a:solidFill>
              <a:latin typeface="Corbe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69972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4160" y="1949400"/>
            <a:ext cx="369972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1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03154"/>
              </a:solidFill>
              <a:latin typeface="Corbe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69972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4160" y="1949400"/>
            <a:ext cx="369972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F2A0267-5C1F-49EF-8EC0-919EBD208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1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0315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481400E-A1DC-4694-8ED3-32CA775C9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779040" y="294840"/>
            <a:ext cx="75819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FB539ED-52B4-4F5D-9D96-200722EC3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1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03154"/>
              </a:solidFill>
              <a:latin typeface="Corbe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699720" cy="19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4160" y="1949400"/>
            <a:ext cx="369972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779040" y="4041720"/>
            <a:ext cx="3699720" cy="19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AAAF467-D642-4CD3-8571-C74BCCFE6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1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03154"/>
              </a:solidFill>
              <a:latin typeface="Corbe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69972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4160" y="1949400"/>
            <a:ext cx="3699720" cy="19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4160" y="4041720"/>
            <a:ext cx="3699720" cy="19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0EFA570-6ACF-47DB-A26C-6B02E92DA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1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03154"/>
              </a:solidFill>
              <a:latin typeface="Corbe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699720" cy="19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4160" y="1949400"/>
            <a:ext cx="3699720" cy="19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779040" y="4041720"/>
            <a:ext cx="7581960" cy="19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202B581-D106-4202-B3B5-6089DF59F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1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0315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7581960" cy="19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779040" y="4041720"/>
            <a:ext cx="7581960" cy="19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0071CEC-D2C6-4549-879F-8259C3E30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1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03154"/>
              </a:solidFill>
              <a:latin typeface="Corbe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699720" cy="19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4160" y="1949400"/>
            <a:ext cx="3699720" cy="19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779040" y="4041720"/>
            <a:ext cx="3699720" cy="19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4160" y="4041720"/>
            <a:ext cx="3699720" cy="19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B87597F-265E-4428-9A8F-3ECBE73CB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1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0315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2441160" cy="19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42600" y="1949400"/>
            <a:ext cx="2441160" cy="19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06160" y="1949400"/>
            <a:ext cx="2441160" cy="19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779040" y="4041720"/>
            <a:ext cx="2441160" cy="19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42600" y="4041720"/>
            <a:ext cx="2441160" cy="19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06160" y="4041720"/>
            <a:ext cx="2441160" cy="19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B1014A8-E3DB-48EF-B7CD-05D48479FE9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1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0315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779040" y="294840"/>
            <a:ext cx="75819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1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03154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699720" cy="19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4160" y="1949400"/>
            <a:ext cx="369972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79040" y="4041720"/>
            <a:ext cx="3699720" cy="19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1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03154"/>
              </a:solidFill>
              <a:latin typeface="Corbe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69972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4160" y="1949400"/>
            <a:ext cx="3699720" cy="19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4160" y="4041720"/>
            <a:ext cx="3699720" cy="19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1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03154"/>
              </a:solidFill>
              <a:latin typeface="Corbe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699720" cy="19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4160" y="1949400"/>
            <a:ext cx="3699720" cy="19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79040" y="4041720"/>
            <a:ext cx="7581960" cy="19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379680"/>
            <a:ext cx="7542360" cy="2602080"/>
            <a:chOff x="0" y="3379680"/>
            <a:chExt cx="7542360" cy="2602080"/>
          </a:xfrm>
        </p:grpSpPr>
        <p:grpSp>
          <p:nvGrpSpPr>
            <p:cNvPr id="1" name=""/>
            <p:cNvGrpSpPr/>
            <p:nvPr/>
          </p:nvGrpSpPr>
          <p:grpSpPr>
            <a:xfrm>
              <a:off x="0" y="3379680"/>
              <a:ext cx="7542360" cy="2602080"/>
              <a:chOff x="0" y="3379680"/>
              <a:chExt cx="7542360" cy="26020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3392640"/>
                <a:ext cx="7542360" cy="258912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3379680"/>
                <a:ext cx="7542360" cy="0"/>
              </a:xfrm>
              <a:prstGeom prst="line">
                <a:avLst/>
              </a:prstGeom>
              <a:ln w="28440">
                <a:solidFill>
                  <a:srgbClr val="ff7f0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" name=""/>
            <p:cNvSpPr/>
            <p:nvPr/>
          </p:nvSpPr>
          <p:spPr>
            <a:xfrm>
              <a:off x="6818400" y="3621240"/>
              <a:ext cx="392040" cy="392040"/>
            </a:xfrm>
            <a:prstGeom prst="ellipse">
              <a:avLst/>
            </a:prstGeom>
            <a:solidFill>
              <a:srgbClr val="ff7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1600" y="3912840"/>
            <a:ext cx="586584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103154"/>
                </a:solidFill>
                <a:latin typeface="Corbel"/>
              </a:rPr>
              <a:t>Click to edit the title text format</a:t>
            </a:r>
            <a:endParaRPr b="0" lang="en-US" sz="1800" spc="-1" strike="noStrike">
              <a:solidFill>
                <a:srgbClr val="103154"/>
              </a:solidFill>
              <a:latin typeface="Corbe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112320" y="5715000"/>
            <a:ext cx="2055960" cy="363600"/>
          </a:xfrm>
          <a:prstGeom prst="rect">
            <a:avLst/>
          </a:prstGeom>
          <a:noFill/>
          <a:ln w="0">
            <a:noFill/>
          </a:ln>
        </p:spPr>
        <p:txBody>
          <a:bodyPr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1" lang="en-CA" sz="1400" spc="-1" strike="noStrike">
                <a:solidFill>
                  <a:srgbClr val="808080"/>
                </a:solidFill>
                <a:latin typeface="Corbel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CA" sz="1400" spc="-1" strike="noStrike">
                <a:solidFill>
                  <a:srgbClr val="808080"/>
                </a:solidFill>
                <a:latin typeface="Corbel"/>
                <a:ea typeface="Lucida Sans Unicode"/>
              </a:rPr>
              <a:t>12-11-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6200000">
            <a:off x="-357120" y="450324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Click to edit the outline text format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1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Second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2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Third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3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Four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4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Fif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5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Six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6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Seven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228600" y="228600"/>
            <a:ext cx="4249800" cy="6384960"/>
            <a:chOff x="228600" y="228600"/>
            <a:chExt cx="4249800" cy="6384960"/>
          </a:xfrm>
        </p:grpSpPr>
        <p:sp>
          <p:nvSpPr>
            <p:cNvPr id="46" name=""/>
            <p:cNvSpPr/>
            <p:nvPr/>
          </p:nvSpPr>
          <p:spPr>
            <a:xfrm>
              <a:off x="228600" y="228600"/>
              <a:ext cx="4249800" cy="6384960"/>
            </a:xfrm>
            <a:custGeom>
              <a:avLst/>
              <a:gdLst>
                <a:gd name="textAreaLeft" fmla="*/ 0 w 4249800"/>
                <a:gd name="textAreaRight" fmla="*/ 4250160 w 4249800"/>
                <a:gd name="textAreaTop" fmla="*/ 0 h 6384960"/>
                <a:gd name="textAreaBottom" fmla="*/ 6384960 h 6384960"/>
              </a:gdLst>
              <a:ahLst/>
              <a:rect l="textAreaLeft" t="textAreaTop" r="textAreaRight" b="textAreaBottom"/>
              <a:pathLst>
                <a:path w="21600" h="32451">
                  <a:moveTo>
                    <a:pt x="0" y="0"/>
                  </a:moveTo>
                  <a:arcTo wR="0" hR="0" stAng="16200000" swAng="-5400000"/>
                  <a:lnTo>
                    <a:pt x="0" y="32451"/>
                  </a:lnTo>
                  <a:arcTo wR="0" hR="0" stAng="10800000" swAng="-5400000"/>
                  <a:lnTo>
                    <a:pt x="21600" y="3245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886200" y="433440"/>
              <a:ext cx="352440" cy="352440"/>
            </a:xfrm>
            <a:prstGeom prst="ellipse">
              <a:avLst/>
            </a:prstGeom>
            <a:solidFill>
              <a:srgbClr val="ff7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29920" y="2176200"/>
            <a:ext cx="3655800" cy="115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103154"/>
                </a:solidFill>
                <a:latin typeface="Corbel"/>
              </a:rPr>
              <a:t>Click to edit the title text format</a:t>
            </a:r>
            <a:endParaRPr b="0" lang="en-US" sz="1800" spc="-1" strike="noStrike">
              <a:solidFill>
                <a:srgbClr val="103154"/>
              </a:solidFill>
              <a:latin typeface="Corbel"/>
            </a:endParaRPr>
          </a:p>
        </p:txBody>
      </p:sp>
      <p:sp>
        <p:nvSpPr>
          <p:cNvPr id="49" name=""/>
          <p:cNvSpPr/>
          <p:nvPr/>
        </p:nvSpPr>
        <p:spPr>
          <a:xfrm>
            <a:off x="4654440" y="228600"/>
            <a:ext cx="4251600" cy="6391440"/>
          </a:xfrm>
          <a:custGeom>
            <a:avLst/>
            <a:gdLst>
              <a:gd name="textAreaLeft" fmla="*/ 0 w 4251600"/>
              <a:gd name="textAreaRight" fmla="*/ 4251960 w 4251600"/>
              <a:gd name="textAreaTop" fmla="*/ 0 h 6391440"/>
              <a:gd name="textAreaBottom" fmla="*/ 6391800 h 6391440"/>
            </a:gdLst>
            <a:ahLst/>
            <a:rect l="textAreaLeft" t="textAreaTop" r="textAreaRight" b="textAreaBottom"/>
            <a:pathLst>
              <a:path w="21600" h="32470">
                <a:moveTo>
                  <a:pt x="0" y="0"/>
                </a:moveTo>
                <a:arcTo wR="0" hR="0" stAng="16200000" swAng="-5400000"/>
                <a:lnTo>
                  <a:pt x="0" y="32470"/>
                </a:lnTo>
                <a:arcTo wR="0" hR="0" stAng="10800000" swAng="-5400000"/>
                <a:lnTo>
                  <a:pt x="21600" y="32470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174576"/>
                </a:solidFill>
                <a:latin typeface="Corbel"/>
              </a:rPr>
              <a:t>Drag picture to placeholder or click icon to ad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29920" y="3341520"/>
            <a:ext cx="3655800" cy="25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1000"/>
          </a:bodyPr>
          <a:p>
            <a:pPr marL="24336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Click to edit the outline text format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1" marL="243360" indent="-24336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Second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2" marL="243360" indent="-24336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Third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3" marL="243360" indent="-24336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Four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4" marL="243360" indent="-24336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Fif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5" marL="243360" indent="-24336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Six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6" marL="243360" indent="-24336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Seven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2"/>
          </p:nvPr>
        </p:nvSpPr>
        <p:spPr>
          <a:xfrm>
            <a:off x="758520" y="6300720"/>
            <a:ext cx="12970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en-CA" sz="1800" spc="-1" strike="noStrike">
                <a:solidFill>
                  <a:srgbClr val="103154"/>
                </a:solidFill>
                <a:latin typeface="Corbel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CA" sz="1800" spc="-1" strike="noStrike">
                <a:solidFill>
                  <a:srgbClr val="103154"/>
                </a:solidFill>
                <a:latin typeface="Corbel"/>
                <a:ea typeface="Lucida Sans Unicode"/>
              </a:rPr>
              <a:t>12-11-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57400" y="6300720"/>
            <a:ext cx="2340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3"/>
          </p:nvPr>
        </p:nvSpPr>
        <p:spPr>
          <a:xfrm>
            <a:off x="301320" y="6300720"/>
            <a:ext cx="4460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CA" sz="1800" spc="-1" strike="noStrike">
                <a:solidFill>
                  <a:srgbClr val="103154"/>
                </a:solidFill>
                <a:latin typeface="Corbel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995B7E1-DDCF-4166-80DD-17606A4E93C3}" type="slidenum">
              <a:rPr b="0" lang="en-CA" sz="1800" spc="-1" strike="noStrike">
                <a:solidFill>
                  <a:srgbClr val="103154"/>
                </a:solidFill>
                <a:latin typeface="Corbel"/>
                <a:ea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8600" y="1708200"/>
            <a:ext cx="8686800" cy="490860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228600"/>
            <a:ext cx="8686800" cy="127800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1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103154"/>
                </a:solidFill>
                <a:latin typeface="Corbel"/>
              </a:rPr>
              <a:t>Click to edit the title text format</a:t>
            </a:r>
            <a:endParaRPr b="0" lang="en-US" sz="1800" spc="-1" strike="noStrike">
              <a:solidFill>
                <a:srgbClr val="103154"/>
              </a:solidFill>
              <a:latin typeface="Corbe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779040" y="1949400"/>
            <a:ext cx="758196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Click to edit the outline text format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1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Second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2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Third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3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Four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4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Fif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5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Six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6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Seven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4"/>
          </p:nvPr>
        </p:nvSpPr>
        <p:spPr>
          <a:xfrm>
            <a:off x="228600" y="6243480"/>
            <a:ext cx="21319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CA" sz="1800" spc="-1" strike="noStrike">
                <a:solidFill>
                  <a:srgbClr val="103154"/>
                </a:solidFill>
                <a:latin typeface="Corbel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CA" sz="1800" spc="-1" strike="noStrike">
                <a:solidFill>
                  <a:srgbClr val="103154"/>
                </a:solidFill>
                <a:latin typeface="Corbel"/>
                <a:ea typeface="Lucida Sans Unicode"/>
              </a:rPr>
              <a:t>12-11-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867280" y="6248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sldNum" idx="5"/>
          </p:nvPr>
        </p:nvSpPr>
        <p:spPr>
          <a:xfrm>
            <a:off x="4304880" y="6248160"/>
            <a:ext cx="5317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CA" sz="1800" spc="-1" strike="noStrike">
                <a:solidFill>
                  <a:srgbClr val="103154"/>
                </a:solidFill>
                <a:latin typeface="Corbel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15AE704-9C44-4B4C-94EC-A1303D3DD7AC}" type="slidenum">
              <a:rPr b="0" lang="en-CA" sz="1800" spc="-1" strike="noStrike">
                <a:solidFill>
                  <a:srgbClr val="103154"/>
                </a:solidFill>
                <a:latin typeface="Corbel"/>
                <a:ea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228600" y="4648320"/>
            <a:ext cx="8686800" cy="196344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647960"/>
            <a:ext cx="8151840" cy="60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103154"/>
                </a:solidFill>
                <a:latin typeface="Corbel"/>
              </a:rPr>
              <a:t>Click to edit the title text format</a:t>
            </a:r>
            <a:endParaRPr b="0" lang="en-US" sz="1800" spc="-1" strike="noStrike">
              <a:solidFill>
                <a:srgbClr val="103154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dt" idx="6"/>
          </p:nvPr>
        </p:nvSpPr>
        <p:spPr>
          <a:xfrm>
            <a:off x="228600" y="6243480"/>
            <a:ext cx="21319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CA" sz="1800" spc="-1" strike="noStrike">
                <a:solidFill>
                  <a:srgbClr val="103154"/>
                </a:solidFill>
                <a:latin typeface="Corbel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CA" sz="1800" spc="-1" strike="noStrike">
                <a:solidFill>
                  <a:srgbClr val="103154"/>
                </a:solidFill>
                <a:latin typeface="Corbel"/>
                <a:ea typeface="Lucida Sans Unicode"/>
              </a:rPr>
              <a:t>12-11-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6248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sldNum" idx="7"/>
          </p:nvPr>
        </p:nvSpPr>
        <p:spPr>
          <a:xfrm>
            <a:off x="4304880" y="6248160"/>
            <a:ext cx="5317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CA" sz="1800" spc="-1" strike="noStrike">
                <a:solidFill>
                  <a:srgbClr val="103154"/>
                </a:solidFill>
                <a:latin typeface="Corbel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71C48E9-45B7-467D-A60C-77700F83EC95}" type="slidenum">
              <a:rPr b="0" lang="en-CA" sz="1800" spc="-1" strike="noStrike">
                <a:solidFill>
                  <a:srgbClr val="103154"/>
                </a:solidFill>
                <a:latin typeface="Corbel"/>
                <a:ea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body"/>
          </p:nvPr>
        </p:nvSpPr>
        <p:spPr>
          <a:xfrm>
            <a:off x="456840" y="5257440"/>
            <a:ext cx="815508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21000"/>
          </a:bodyPr>
          <a:p>
            <a:pPr marL="7200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Click to edit the outline text format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1" marL="72000" indent="-720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Second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2" marL="72000" indent="-720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Third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3" marL="72000" indent="-720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Four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4" marL="72000" indent="-720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Fif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5" marL="72000" indent="-720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Six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6" marL="72000" indent="-720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Seven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" y="228600"/>
            <a:ext cx="8677440" cy="426708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174576"/>
                </a:solidFill>
                <a:latin typeface="Corbel"/>
              </a:rPr>
              <a:t>Drag picture to placeholder or click icon to ad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s://www.ai-class.com/" TargetMode="External"/><Relationship Id="rId3" Type="http://schemas.openxmlformats.org/officeDocument/2006/relationships/hyperlink" Target="https://www.coursera.org/course/ml" TargetMode="External"/><Relationship Id="rId4" Type="http://schemas.openxmlformats.org/officeDocument/2006/relationships/hyperlink" Target="http://www.academicearth.org/courses/machine-learning" TargetMode="External"/><Relationship Id="rId5" Type="http://schemas.openxmlformats.org/officeDocument/2006/relationships/slideLayout" Target="../slideLayouts/slideLayout2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371600" y="3913200"/>
            <a:ext cx="586728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800" spc="-1" strike="noStrike">
                <a:solidFill>
                  <a:srgbClr val="174576"/>
                </a:solidFill>
                <a:latin typeface="Corbel"/>
              </a:rPr>
              <a:t>Artificial Intelligence </a:t>
            </a:r>
            <a:endParaRPr b="0" lang="en-US" sz="3800" spc="-1" strike="noStrike">
              <a:solidFill>
                <a:srgbClr val="10315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1371600" y="4982760"/>
            <a:ext cx="586728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174576"/>
                </a:solidFill>
                <a:latin typeface="Corbel"/>
              </a:rPr>
              <a:t>And Machine learn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800" spc="-1" strike="noStrike">
                <a:solidFill>
                  <a:srgbClr val="174576"/>
                </a:solidFill>
                <a:latin typeface="Corbel"/>
              </a:rPr>
              <a:t>Search and optimization</a:t>
            </a:r>
            <a:endParaRPr b="0" lang="en-US" sz="3800" spc="-1" strike="noStrike">
              <a:solidFill>
                <a:srgbClr val="103154"/>
              </a:solidFill>
              <a:latin typeface="Corbel"/>
            </a:endParaRPr>
          </a:p>
        </p:txBody>
      </p:sp>
      <p:sp>
        <p:nvSpPr>
          <p:cNvPr id="196" name=""/>
          <p:cNvSpPr/>
          <p:nvPr/>
        </p:nvSpPr>
        <p:spPr>
          <a:xfrm>
            <a:off x="77940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640">
              <a:lnSpc>
                <a:spcPct val="100000"/>
              </a:lnSpc>
              <a:spcBef>
                <a:spcPts val="2001"/>
              </a:spcBef>
              <a:spcAft>
                <a:spcPts val="1426"/>
              </a:spcAft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Many of the problems that AI face can in theory be solved by searching through many possible solution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2001"/>
              </a:spcBef>
              <a:spcAft>
                <a:spcPts val="1426"/>
              </a:spcAft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logical proof can be seen as searching for a path that leads from premises to conclusion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2001"/>
              </a:spcBef>
              <a:spcAft>
                <a:spcPts val="1426"/>
              </a:spcAft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In the 1990s a different kind of search came to prominence, it was based on the mathematical theory of optimization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800" spc="-1" strike="noStrike">
                <a:solidFill>
                  <a:srgbClr val="174576"/>
                </a:solidFill>
                <a:latin typeface="Corbel"/>
              </a:rPr>
              <a:t>Logic</a:t>
            </a:r>
            <a:endParaRPr b="0" lang="en-US" sz="3800" spc="-1" strike="noStrike">
              <a:solidFill>
                <a:srgbClr val="103154"/>
              </a:solidFill>
              <a:latin typeface="Corbel"/>
            </a:endParaRPr>
          </a:p>
        </p:txBody>
      </p:sp>
      <p:sp>
        <p:nvSpPr>
          <p:cNvPr id="198" name=""/>
          <p:cNvSpPr/>
          <p:nvPr/>
        </p:nvSpPr>
        <p:spPr>
          <a:xfrm>
            <a:off x="77940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640">
              <a:lnSpc>
                <a:spcPct val="100000"/>
              </a:lnSpc>
              <a:spcBef>
                <a:spcPts val="2001"/>
              </a:spcBef>
              <a:spcAft>
                <a:spcPts val="1426"/>
              </a:spcAft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Logic is most commonly used for knowledge representation and problem solv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2001"/>
              </a:spcBef>
              <a:spcAft>
                <a:spcPts val="1426"/>
              </a:spcAft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There are a few different forms of logic used in AI resear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2001"/>
              </a:spcBef>
              <a:spcAft>
                <a:spcPts val="1426"/>
              </a:spcAft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Propositional logic, first-order logic, fuzzy logic, subjective logic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800" spc="-1" strike="noStrike">
                <a:solidFill>
                  <a:srgbClr val="174576"/>
                </a:solidFill>
                <a:latin typeface="Corbel"/>
              </a:rPr>
              <a:t>Probabilistic methods for uncertain reasoning  </a:t>
            </a:r>
            <a:endParaRPr b="0" lang="en-US" sz="3800" spc="-1" strike="noStrike">
              <a:solidFill>
                <a:srgbClr val="103154"/>
              </a:solidFill>
              <a:latin typeface="Corbel"/>
            </a:endParaRPr>
          </a:p>
        </p:txBody>
      </p:sp>
      <p:sp>
        <p:nvSpPr>
          <p:cNvPr id="200" name=""/>
          <p:cNvSpPr/>
          <p:nvPr/>
        </p:nvSpPr>
        <p:spPr>
          <a:xfrm>
            <a:off x="77940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640">
              <a:lnSpc>
                <a:spcPct val="100000"/>
              </a:lnSpc>
              <a:spcBef>
                <a:spcPts val="2001"/>
              </a:spcBef>
              <a:spcAft>
                <a:spcPts val="1426"/>
              </a:spcAft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Many of the problems faced in AI research require an outside source to operate with incomplete or uncertain informa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2001"/>
              </a:spcBef>
              <a:spcAft>
                <a:spcPts val="1426"/>
              </a:spcAft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 </a:t>
            </a: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Some of the tools used to solve these problems use various methods from probability theory and economic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2001"/>
              </a:spcBef>
              <a:spcAft>
                <a:spcPts val="1426"/>
              </a:spcAft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A key concept from the science of economics is "utility": a measure of how valuable something is to an intelligent agent, using this an agent can make choices and pla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800" spc="-1" strike="noStrike">
                <a:solidFill>
                  <a:srgbClr val="174576"/>
                </a:solidFill>
                <a:latin typeface="Corbel"/>
              </a:rPr>
              <a:t>Classifiers and statistical learning methods </a:t>
            </a:r>
            <a:endParaRPr b="0" lang="en-US" sz="3800" spc="-1" strike="noStrike">
              <a:solidFill>
                <a:srgbClr val="103154"/>
              </a:solidFill>
              <a:latin typeface="Corbel"/>
            </a:endParaRPr>
          </a:p>
        </p:txBody>
      </p:sp>
      <p:sp>
        <p:nvSpPr>
          <p:cNvPr id="202" name=""/>
          <p:cNvSpPr/>
          <p:nvPr/>
        </p:nvSpPr>
        <p:spPr>
          <a:xfrm>
            <a:off x="77940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640">
              <a:lnSpc>
                <a:spcPct val="100000"/>
              </a:lnSpc>
              <a:spcBef>
                <a:spcPts val="2001"/>
              </a:spcBef>
              <a:spcAft>
                <a:spcPts val="1426"/>
              </a:spcAft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The two simplest types of AI applications can be divided into Classifiers and controller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2001"/>
              </a:spcBef>
              <a:spcAft>
                <a:spcPts val="1426"/>
              </a:spcAft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An example of this is: Classifier (“ if round then ball”) and the controller (“ if round then move”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2001"/>
              </a:spcBef>
              <a:spcAft>
                <a:spcPts val="1426"/>
              </a:spcAft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One of the most widely used classifiers is neural network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800" spc="-1" strike="noStrike">
                <a:solidFill>
                  <a:srgbClr val="174576"/>
                </a:solidFill>
                <a:latin typeface="Corbel"/>
              </a:rPr>
              <a:t>Evaluation of AI</a:t>
            </a:r>
            <a:endParaRPr b="0" lang="en-US" sz="3800" spc="-1" strike="noStrike">
              <a:solidFill>
                <a:srgbClr val="103154"/>
              </a:solidFill>
              <a:latin typeface="Corbel"/>
            </a:endParaRPr>
          </a:p>
        </p:txBody>
      </p:sp>
      <p:sp>
        <p:nvSpPr>
          <p:cNvPr id="204" name=""/>
          <p:cNvSpPr/>
          <p:nvPr/>
        </p:nvSpPr>
        <p:spPr>
          <a:xfrm>
            <a:off x="77940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640">
              <a:lnSpc>
                <a:spcPct val="100000"/>
              </a:lnSpc>
              <a:spcBef>
                <a:spcPts val="2001"/>
              </a:spcBef>
              <a:spcAft>
                <a:spcPts val="1426"/>
              </a:spcAft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 </a:t>
            </a: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Optimal: it is not possible to preform bett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2001"/>
              </a:spcBef>
              <a:spcAft>
                <a:spcPts val="1426"/>
              </a:spcAft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Strong super-human: preforms better than all human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2001"/>
              </a:spcBef>
              <a:spcAft>
                <a:spcPts val="1426"/>
              </a:spcAft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Super-human: preforms better than most huma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2001"/>
              </a:spcBef>
              <a:spcAft>
                <a:spcPts val="1426"/>
              </a:spcAft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Sub-human: preforms worse than most humans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457200" y="4648320"/>
            <a:ext cx="8153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800" spc="-1" strike="noStrike">
                <a:solidFill>
                  <a:srgbClr val="174576"/>
                </a:solidFill>
                <a:latin typeface="Corbel"/>
              </a:rPr>
              <a:t>The Future of Robotics and Artificial Intelligenc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57200" y="5257800"/>
            <a:ext cx="815652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640">
              <a:lnSpc>
                <a:spcPct val="100000"/>
              </a:lnSpc>
              <a:spcBef>
                <a:spcPts val="2001"/>
              </a:spcBef>
              <a:spcAft>
                <a:spcPts val="1426"/>
              </a:spcAft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https://www.youtube.com/watch?v=AY4ajbu_G3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28600" y="228600"/>
            <a:ext cx="8677440" cy="426708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174576"/>
                </a:solidFill>
                <a:latin typeface="Corbel"/>
              </a:rPr>
              <a:t>Drag picture to placeholder or click icon to ad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77904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103154"/>
                </a:solidFill>
                <a:latin typeface="Corbel"/>
              </a:rPr>
              <a:t>Bibliograph</a:t>
            </a:r>
            <a:r>
              <a:rPr b="0" lang="en-US" sz="3200" spc="-1" strike="noStrike">
                <a:solidFill>
                  <a:srgbClr val="103154"/>
                </a:solidFill>
                <a:latin typeface="Corbel"/>
              </a:rPr>
              <a:t>	</a:t>
            </a:r>
            <a:endParaRPr b="0" lang="en-US" sz="3200" spc="-1" strike="noStrike">
              <a:solidFill>
                <a:srgbClr val="103154"/>
              </a:solidFill>
              <a:latin typeface="Corbel"/>
            </a:endParaRPr>
          </a:p>
        </p:txBody>
      </p:sp>
      <p:sp>
        <p:nvSpPr>
          <p:cNvPr id="210" name=""/>
          <p:cNvSpPr/>
          <p:nvPr/>
        </p:nvSpPr>
        <p:spPr>
          <a:xfrm>
            <a:off x="77940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s://www.ai-class.com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https://www.coursera.org/course/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http://www.academicearth.org/courses/machine-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530280" y="892080"/>
            <a:ext cx="36576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800" spc="-1" strike="noStrike">
                <a:solidFill>
                  <a:srgbClr val="174576"/>
                </a:solidFill>
                <a:latin typeface="Corbel"/>
              </a:rPr>
              <a:t>What is AI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rcRect l="0" t="-34175" r="0" b="-34175"/>
          <a:stretch/>
        </p:blipFill>
        <p:spPr>
          <a:xfrm>
            <a:off x="4892760" y="260280"/>
            <a:ext cx="4251240" cy="639144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590400" y="1944720"/>
            <a:ext cx="3657600" cy="39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800" spc="-1" strike="noStrike">
                <a:solidFill>
                  <a:srgbClr val="174576"/>
                </a:solidFill>
                <a:latin typeface="Corbel"/>
              </a:rPr>
              <a:t>Different kinds of AI</a:t>
            </a:r>
            <a:endParaRPr b="0" lang="en-US" sz="3800" spc="-1" strike="noStrike">
              <a:solidFill>
                <a:srgbClr val="103154"/>
              </a:solidFill>
              <a:latin typeface="Corbel"/>
            </a:endParaRPr>
          </a:p>
        </p:txBody>
      </p:sp>
      <p:sp>
        <p:nvSpPr>
          <p:cNvPr id="182" name=""/>
          <p:cNvSpPr/>
          <p:nvPr/>
        </p:nvSpPr>
        <p:spPr>
          <a:xfrm>
            <a:off x="77940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640">
              <a:lnSpc>
                <a:spcPct val="100000"/>
              </a:lnSpc>
              <a:spcBef>
                <a:spcPts val="2001"/>
              </a:spcBef>
              <a:spcAft>
                <a:spcPts val="1426"/>
              </a:spcAft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Cybernetics and brain simul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2001"/>
              </a:spcBef>
              <a:spcAft>
                <a:spcPts val="1426"/>
              </a:spcAft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Symbol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2001"/>
              </a:spcBef>
              <a:spcAft>
                <a:spcPts val="1426"/>
              </a:spcAft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Sub-Symbol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2001"/>
              </a:spcBef>
              <a:spcAft>
                <a:spcPts val="1426"/>
              </a:spcAft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Statistic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200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800" spc="-1" strike="noStrike">
                <a:solidFill>
                  <a:srgbClr val="174576"/>
                </a:solidFill>
                <a:latin typeface="Corbel"/>
              </a:rPr>
              <a:t>Cybernetics and Brain Simulation</a:t>
            </a:r>
            <a:endParaRPr b="0" lang="en-US" sz="3800" spc="-1" strike="noStrike">
              <a:solidFill>
                <a:srgbClr val="103154"/>
              </a:solidFill>
              <a:latin typeface="Corbel"/>
            </a:endParaRPr>
          </a:p>
        </p:txBody>
      </p:sp>
      <p:sp>
        <p:nvSpPr>
          <p:cNvPr id="184" name=""/>
          <p:cNvSpPr/>
          <p:nvPr/>
        </p:nvSpPr>
        <p:spPr>
          <a:xfrm>
            <a:off x="77940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640">
              <a:lnSpc>
                <a:spcPct val="100000"/>
              </a:lnSpc>
              <a:spcBef>
                <a:spcPts val="2001"/>
              </a:spcBef>
              <a:spcAft>
                <a:spcPts val="1426"/>
              </a:spcAft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In the 1940’s and 50’s a number of researchers explored the connection between Neurology information theory and cybernetic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2001"/>
              </a:spcBef>
              <a:spcAft>
                <a:spcPts val="1426"/>
              </a:spcAft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 </a:t>
            </a: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some of the researchers used electronic networks to exhibit rudimentary intelligenc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2001"/>
              </a:spcBef>
              <a:spcAft>
                <a:spcPts val="1426"/>
              </a:spcAft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Some examples of this are W. Grey Walters “turtles” and Johns Hopkins “Beast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800" spc="-1" strike="noStrike">
                <a:solidFill>
                  <a:srgbClr val="174576"/>
                </a:solidFill>
                <a:latin typeface="Corbel"/>
              </a:rPr>
              <a:t>Symbolic</a:t>
            </a:r>
            <a:endParaRPr b="0" lang="en-US" sz="3800" spc="-1" strike="noStrike">
              <a:solidFill>
                <a:srgbClr val="103154"/>
              </a:solidFill>
              <a:latin typeface="Corbel"/>
            </a:endParaRPr>
          </a:p>
        </p:txBody>
      </p:sp>
      <p:sp>
        <p:nvSpPr>
          <p:cNvPr id="186" name=""/>
          <p:cNvSpPr/>
          <p:nvPr/>
        </p:nvSpPr>
        <p:spPr>
          <a:xfrm>
            <a:off x="77940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640">
              <a:lnSpc>
                <a:spcPct val="100000"/>
              </a:lnSpc>
              <a:spcBef>
                <a:spcPts val="2001"/>
              </a:spcBef>
              <a:spcAft>
                <a:spcPts val="1426"/>
              </a:spcAft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In the 1950’s when access to digital computers became possible, AI research began to explore the possibility that human intelligence could be reduced to symbol representa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2001"/>
              </a:spcBef>
              <a:spcAft>
                <a:spcPts val="1426"/>
              </a:spcAft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Since the 1960’s, symbolic approaches had achieved great success at simulating high-level thinking in small demonstration program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2001"/>
              </a:spcBef>
              <a:spcAft>
                <a:spcPts val="1426"/>
              </a:spcAft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   </a:t>
            </a: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Symbolic AI can be broken down into the following categories: Cognitive simulation, Logic-based and knowledge-based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800" spc="-1" strike="noStrike">
                <a:solidFill>
                  <a:srgbClr val="174576"/>
                </a:solidFill>
                <a:latin typeface="Corbel"/>
              </a:rPr>
              <a:t>Sub-Symbolic</a:t>
            </a:r>
            <a:endParaRPr b="0" lang="en-US" sz="3800" spc="-1" strike="noStrike">
              <a:solidFill>
                <a:srgbClr val="103154"/>
              </a:solidFill>
              <a:latin typeface="Corbel"/>
            </a:endParaRPr>
          </a:p>
        </p:txBody>
      </p:sp>
      <p:sp>
        <p:nvSpPr>
          <p:cNvPr id="188" name=""/>
          <p:cNvSpPr/>
          <p:nvPr/>
        </p:nvSpPr>
        <p:spPr>
          <a:xfrm>
            <a:off x="77940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640">
              <a:lnSpc>
                <a:spcPct val="100000"/>
              </a:lnSpc>
              <a:spcBef>
                <a:spcPts val="2001"/>
              </a:spcBef>
              <a:spcAft>
                <a:spcPts val="1426"/>
              </a:spcAft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In the 1980’s the progress in Symbolic AI had stalled and many believed that symbolic systems would never be able to imitate all the processes of human cogni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800" spc="-1" strike="noStrike">
                <a:solidFill>
                  <a:srgbClr val="174576"/>
                </a:solidFill>
                <a:latin typeface="Corbel"/>
              </a:rPr>
              <a:t>Statistical</a:t>
            </a:r>
            <a:endParaRPr b="0" lang="en-US" sz="3800" spc="-1" strike="noStrike">
              <a:solidFill>
                <a:srgbClr val="103154"/>
              </a:solidFill>
              <a:latin typeface="Corbel"/>
            </a:endParaRPr>
          </a:p>
        </p:txBody>
      </p:sp>
      <p:sp>
        <p:nvSpPr>
          <p:cNvPr id="190" name=""/>
          <p:cNvSpPr/>
          <p:nvPr/>
        </p:nvSpPr>
        <p:spPr>
          <a:xfrm>
            <a:off x="77940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640">
              <a:lnSpc>
                <a:spcPct val="100000"/>
              </a:lnSpc>
              <a:spcBef>
                <a:spcPts val="2001"/>
              </a:spcBef>
              <a:spcAft>
                <a:spcPts val="1426"/>
              </a:spcAft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This type of research was started in the 1990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2001"/>
              </a:spcBef>
              <a:spcAft>
                <a:spcPts val="1426"/>
              </a:spcAft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It focused on advanced mathematical tools to solve specific proble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2001"/>
              </a:spcBef>
              <a:spcAft>
                <a:spcPts val="1426"/>
              </a:spcAft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The results of these tests were both measurable and variable and have been some of the biggest contributors to many success’s in AI research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800" spc="-1" strike="noStrike">
                <a:solidFill>
                  <a:srgbClr val="174576"/>
                </a:solidFill>
                <a:latin typeface="Corbel"/>
              </a:rPr>
              <a:t>Integrating the approaches </a:t>
            </a:r>
            <a:endParaRPr b="0" lang="en-US" sz="3800" spc="-1" strike="noStrike">
              <a:solidFill>
                <a:srgbClr val="103154"/>
              </a:solidFill>
              <a:latin typeface="Corbel"/>
            </a:endParaRPr>
          </a:p>
        </p:txBody>
      </p:sp>
      <p:sp>
        <p:nvSpPr>
          <p:cNvPr id="192" name=""/>
          <p:cNvSpPr/>
          <p:nvPr/>
        </p:nvSpPr>
        <p:spPr>
          <a:xfrm>
            <a:off x="77940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640">
              <a:lnSpc>
                <a:spcPct val="100000"/>
              </a:lnSpc>
              <a:spcBef>
                <a:spcPts val="2001"/>
              </a:spcBef>
              <a:spcAft>
                <a:spcPts val="1426"/>
              </a:spcAft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Intelligent ag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2001"/>
              </a:spcBef>
              <a:spcAft>
                <a:spcPts val="1426"/>
              </a:spcAft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Multi- agent system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800" spc="-1" strike="noStrike">
                <a:solidFill>
                  <a:srgbClr val="174576"/>
                </a:solidFill>
                <a:latin typeface="Corbel"/>
              </a:rPr>
              <a:t>Tools to achieve this </a:t>
            </a:r>
            <a:endParaRPr b="0" lang="en-US" sz="3800" spc="-1" strike="noStrike">
              <a:solidFill>
                <a:srgbClr val="103154"/>
              </a:solidFill>
              <a:latin typeface="Corbel"/>
            </a:endParaRPr>
          </a:p>
        </p:txBody>
      </p:sp>
      <p:sp>
        <p:nvSpPr>
          <p:cNvPr id="194" name=""/>
          <p:cNvSpPr/>
          <p:nvPr/>
        </p:nvSpPr>
        <p:spPr>
          <a:xfrm>
            <a:off x="77940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640">
              <a:lnSpc>
                <a:spcPct val="100000"/>
              </a:lnSpc>
              <a:spcBef>
                <a:spcPts val="2001"/>
              </a:spcBef>
              <a:spcAft>
                <a:spcPts val="1426"/>
              </a:spcAft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Log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2001"/>
              </a:spcBef>
              <a:spcAft>
                <a:spcPts val="1426"/>
              </a:spcAft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Probabilistic methods for uncertain reasoning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2001"/>
              </a:spcBef>
              <a:spcAft>
                <a:spcPts val="1426"/>
              </a:spcAft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Classifiers and statistical learning method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2-11-25T01:02:48Z</dcterms:modified>
  <cp:revision>0</cp:revision>
  <dc:subject/>
  <dc:title/>
</cp:coreProperties>
</file>